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10BD-17AF-4AB5-AA0C-B1F63EB9E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6EDF-D72C-4263-B2F2-9426D575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8FA7-C349-4717-9EDE-D1AE0EF2B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B0BE-75D6-44AB-95A3-C2C99F9F1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13E8-CA2A-4608-92E8-2A948587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5A76-9830-4885-B8C4-6F46FBDB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BFD7-988B-49A3-A01E-6FEED1065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6F83-37B7-46EE-AFD0-745F93B2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E17B-8DAD-41CB-BA11-5CE8DBDC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CF94-DCE7-4EBD-AE13-748DAB06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99B2-2DFD-44E3-BBCC-BB44E327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50B4-3F82-4DBC-B4D7-459D967D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D51E-916C-43C9-9309-FA6799F22A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sson 9—New 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352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房子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ángz i hou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è (color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重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hòng heav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意思【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ìsī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ning; interesting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SimSun"/>
              </a:rPr>
              <a:t>石头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íto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one; roc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SimSun"/>
              </a:rPr>
              <a:t>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SimSun"/>
              </a:rPr>
              <a:t>【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SimSun"/>
              </a:rPr>
              <a:t>bǎobei4 trea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SimSun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SimSun"/>
              </a:rPr>
              <a:t>可是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SimSun"/>
              </a:rPr>
              <a:t>【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SimSun"/>
              </a:rPr>
              <a:t>kěshì bu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也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ěxǔ perhap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ja-JP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也许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yěxǔ perhaps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ja-JP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这个小石头是一个金子石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5" descr="C:\Documents and Settings\lsabey\Local Settings\Temporary Internet Files\Content.IE5\XSJY32GK\MPj04393180000[1].jpg"/>
          <p:cNvPicPr/>
          <p:nvPr/>
        </p:nvPicPr>
        <p:blipFill>
          <a:blip r:embed="rId1"/>
          <a:stretch/>
        </p:blipFill>
        <p:spPr>
          <a:xfrm>
            <a:off x="2895480" y="2514600"/>
            <a:ext cx="35816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有一座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Documents and Settings\lsabey\Local Settings\Temporary Internet Files\Content.IE5\9WNF7AJN\MPj04389610000[1].jpg"/>
          <p:cNvPicPr/>
          <p:nvPr/>
        </p:nvPicPr>
        <p:blipFill>
          <a:blip r:embed="rId1"/>
          <a:stretch/>
        </p:blipFill>
        <p:spPr>
          <a:xfrm>
            <a:off x="1371600" y="1728720"/>
            <a:ext cx="6400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山上有一个小人的</a:t>
            </a:r>
            <a:br>
              <a:rPr sz="4400"/>
            </a:b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房子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ángz i house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7" name="Picture 5" descr="C:\Documents and Settings\lsabey\Local Settings\Temporary Internet Files\Content.IE5\9WNF7AJN\MPj04389610000[1].jpg"/>
          <p:cNvPicPr/>
          <p:nvPr/>
        </p:nvPicPr>
        <p:blipFill>
          <a:blip r:embed="rId1"/>
          <a:stretch/>
        </p:blipFill>
        <p:spPr>
          <a:xfrm>
            <a:off x="1371600" y="1752480"/>
            <a:ext cx="6400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ja-JP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小人的房子又小又白色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è (color)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ja-JP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的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C:\Documents and Settings\lsabey\Local Settings\Temporary Internet Files\Content.IE5\XSJY32GK\MPj04385300000[1].jpg"/>
          <p:cNvPicPr/>
          <p:nvPr/>
        </p:nvPicPr>
        <p:blipFill>
          <a:blip r:embed="rId1"/>
          <a:stretch/>
        </p:blipFill>
        <p:spPr>
          <a:xfrm>
            <a:off x="1752480" y="1981080"/>
            <a:ext cx="6031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C:\Documents and Settings\lsabey\Local Settings\Temporary Internet Files\Content.IE5\XSJY32GK\MPj04304470000[1].jpg"/>
          <p:cNvPicPr/>
          <p:nvPr/>
        </p:nvPicPr>
        <p:blipFill>
          <a:blip r:embed="rId1"/>
          <a:stretch/>
        </p:blipFill>
        <p:spPr>
          <a:xfrm>
            <a:off x="-52560" y="0"/>
            <a:ext cx="919656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这座房子很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C:\Documents and Settings\lsabey\Local Settings\Temporary Internet Files\Content.IE5\XSJY32GK\MPj04385300000[1].jpg"/>
          <p:cNvPicPr/>
          <p:nvPr/>
        </p:nvPicPr>
        <p:blipFill>
          <a:blip r:embed="rId2"/>
          <a:stretch/>
        </p:blipFill>
        <p:spPr>
          <a:xfrm>
            <a:off x="5410080" y="4952880"/>
            <a:ext cx="1549440" cy="11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C:\Documents and Settings\lsabey\Local Settings\Temporary Internet Files\Content.IE5\7ARHBD3L\MPj04073470000[1].jpg"/>
          <p:cNvPicPr/>
          <p:nvPr/>
        </p:nvPicPr>
        <p:blipFill>
          <a:blip r:embed="rId1"/>
          <a:stretch/>
        </p:blipFill>
        <p:spPr>
          <a:xfrm>
            <a:off x="1219320" y="1616040"/>
            <a:ext cx="6553080" cy="52419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SimSun"/>
              </a:rPr>
              <a:t>今日两百二十个石头进来小人的房子里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C:\Documents and Settings\lsabey\Local Settings\Temporary Internet Files\Content.IE5\3ULOY7Z0\MPj04327190000[1].jpg"/>
          <p:cNvPicPr/>
          <p:nvPr/>
        </p:nvPicPr>
        <p:blipFill>
          <a:blip r:embed="rId1"/>
          <a:stretch/>
        </p:blipFill>
        <p:spPr>
          <a:xfrm>
            <a:off x="1905120" y="1447920"/>
            <a:ext cx="5602320" cy="7464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一个石头又大又重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hòng heav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】也有意思【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ìsī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】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aning; interest;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SimSun"/>
              </a:rPr>
              <a:t>我明白这个大石头下有一个宝贵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SimSun"/>
              </a:rPr>
              <a:t>【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SimSun"/>
              </a:rPr>
              <a:t>bǎobei4 treasure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SimSun"/>
              </a:rPr>
              <a:t>】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C:\Documents and Settings\lsabey\Local Settings\Temporary Internet Files\Content.IE5\FGJUL90C\MPj03418720000[1].jpg"/>
          <p:cNvPicPr/>
          <p:nvPr/>
        </p:nvPicPr>
        <p:blipFill>
          <a:blip r:embed="rId1"/>
          <a:stretch/>
        </p:blipFill>
        <p:spPr>
          <a:xfrm>
            <a:off x="1371600" y="1905120"/>
            <a:ext cx="6324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ja-JP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也有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SimSun"/>
              </a:rPr>
              <a:t>一个小石头。 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SimSun"/>
              </a:rPr>
              <a:t>可是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SimSun"/>
              </a:rPr>
              <a:t>【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SimSun"/>
              </a:rPr>
              <a:t>kěshì bu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SimSun"/>
              </a:rPr>
              <a:t>这个小石头又小又重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SimSun"/>
              </a:rPr>
              <a:t>--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SimSun"/>
              </a:rPr>
              <a:t>太</a:t>
            </a:r>
            <a:r>
              <a:rPr b="0" lang="ja-JP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重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80880" y="259092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C:\Documents and Settings\lsabey\Local Settings\Temporary Internet Files\Content.IE5\XSJY32GK\MPj04372190000[1].jpg"/>
          <p:cNvPicPr/>
          <p:nvPr/>
        </p:nvPicPr>
        <p:blipFill>
          <a:blip r:embed="rId2"/>
          <a:stretch/>
        </p:blipFill>
        <p:spPr>
          <a:xfrm>
            <a:off x="2133720" y="2971800"/>
            <a:ext cx="4924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5T23:35:33Z</dcterms:created>
  <dc:creator>itsuser</dc:creator>
  <dc:description/>
  <dc:language>en-US</dc:language>
  <cp:lastModifiedBy>itsuser</cp:lastModifiedBy>
  <dcterms:modified xsi:type="dcterms:W3CDTF">2009-03-17T18:02:21Z</dcterms:modified>
  <cp:revision>18</cp:revision>
  <dc:subject/>
  <dc:title>山上有一个小人白色【sè (color)】的房子【fángz i house】</dc:title>
</cp:coreProperties>
</file>